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57B1-3971-4D4F-908C-35B9FA96C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5415-48DD-4D89-B983-99E97F986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F8A8-5DB5-4099-BCC4-97D11FD02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FDD9-F8A6-4D34-826F-B647F6921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53EB-65E3-441E-A02A-B9ED816A6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C35-C99A-46B0-93E6-79501758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E55-B09A-460C-BBD8-DDBC4A00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E70-8F6F-4927-A084-EBC3FEE0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4EC-8B18-42B2-BCFC-A1DB9ACE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CFD-D7B1-4F57-B4D0-009975BB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687-27CF-4203-A938-D49D16B8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6A4-3B7B-4AE1-B371-D621287F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E86-899D-4907-8D8A-1F60BD72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27C-CDE4-4071-BE10-68928B62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DAB-8220-4457-8E2D-32B22B45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E70-96D6-44A5-9632-074E68B9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7E5-E83E-4EDA-947F-70084E49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3421-2876-4A4C-BCBF-485BCF4E9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51560" y="201600"/>
            <a:ext cx="32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ster Eg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important outcomes for your graduates?  Pick 1 or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arning Targ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know that graduates have achieved these outcomes?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vid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give them a chance to demonstrate their achievement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Assess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51560" y="201600"/>
            <a:ext cx="32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ster Eg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286360" y="5791320"/>
            <a:ext cx="43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reate a scoring gu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151560" y="201600"/>
            <a:ext cx="32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ent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rcRect l="3544" t="1352" r="5261" b="2702"/>
          <a:stretch/>
        </p:blipFill>
        <p:spPr>
          <a:xfrm>
            <a:off x="380880" y="1295280"/>
            <a:ext cx="3962520" cy="541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828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"/>
          <p:cNvPicPr/>
          <p:nvPr/>
        </p:nvPicPr>
        <p:blipFill>
          <a:blip r:embed="rId1"/>
          <a:srcRect l="3544" t="1352" r="5261" b="2702"/>
          <a:stretch/>
        </p:blipFill>
        <p:spPr>
          <a:xfrm>
            <a:off x="380880" y="1295280"/>
            <a:ext cx="3962520" cy="541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82896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152280" y="2016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solidFill>
            <a:srgbClr val="cccc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important outcomes for your graduates?  Pick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know that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give them a chance to demonstrate their achievement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differentiate achievement and give feedback? (Scoring Gu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90920" y="502920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52280" y="201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mpkin Carving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important outcomes for your graduates?  Pick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know that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give them a chance to demonstrate their achievement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differentiate achievement and give feedback? (Scoring Gu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mpkin Carving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90920" y="502920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15:51:48Z</dcterms:created>
  <dc:creator>Mark Roddy</dc:creator>
  <dc:description/>
  <dc:language>en-US</dc:language>
  <cp:lastModifiedBy>Information Technology</cp:lastModifiedBy>
  <dcterms:modified xsi:type="dcterms:W3CDTF">2013-09-30T19:03:52Z</dcterms:modified>
  <cp:revision>12</cp:revision>
  <dc:subject/>
  <dc:title>PowerPoint Presentation</dc:title>
</cp:coreProperties>
</file>